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D52-A60F-4A60-BBB7-58FF79BC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9B3-84A7-4249-BA54-6E2B068B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958-02A7-4BB2-BE79-0734CEB1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D52-36C0-47CC-B234-9EFCF13E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E09-67A6-4AE0-9BCB-D9B4D6E5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754-E72B-4672-8777-571C408F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78F-37FA-4241-8265-641F348B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A04-DE80-4EB1-9579-89954EFB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5B7-301B-484E-98CB-4E7F6B0F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49B-481F-4DAE-8831-08FCF1F4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1B2-4149-4F48-B9E0-FBFA88A6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FC8-1EF3-4F22-AB60-D1A68C86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7180-C612-4A84-AF82-DE763224B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1940193eoCHDP_ph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867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ق ما كان دنسا أرو ما كان جافا     واشف منا الجرا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1619L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5715000"/>
            <a:ext cx="9144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منح أبناءك المواهب والفضيلة ثوابا  و الخلاص مصيراً والسعادة الأبد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1099056GfuHbDJfYF_ph" descr=""/>
          <p:cNvPicPr/>
          <p:nvPr/>
        </p:nvPicPr>
        <p:blipFill>
          <a:blip r:embed="rId2"/>
          <a:stretch/>
        </p:blipFill>
        <p:spPr>
          <a:xfrm>
            <a:off x="3430440" y="57240"/>
            <a:ext cx="5713560" cy="6800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33520"/>
            <a:ext cx="2971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م يا أبا المساكين ، هلم يا مانح المواهب،                                                       هلم يا ضياء القلوب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6257769qxRtHzTkJC_ph" descr=""/>
          <p:cNvPicPr/>
          <p:nvPr/>
        </p:nvPicPr>
        <p:blipFill>
          <a:blip r:embed="rId2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5880" y="609480"/>
            <a:ext cx="274320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معزيا جليلا يا ضيف النفس العذ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   يا هناءً حلواً يا رفيق الدرب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286622bSprOQQoc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048120"/>
            <a:ext cx="2666880" cy="45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99ff"/>
                </a:solidFill>
                <a:latin typeface="Times New Roman"/>
                <a:cs typeface="Times New Roman"/>
              </a:rPr>
              <a:t>أنت في الكد راحة وفي الحر برود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   وفي البكاء عزاء</a:t>
            </a:r>
            <a:r>
              <a:rPr b="0" lang="ar-SA" sz="2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6257861dvzHEdJlPs_ph" descr=""/>
          <p:cNvPicPr/>
          <p:nvPr/>
        </p:nvPicPr>
        <p:blipFill>
          <a:blip r:embed="rId1"/>
          <a:stretch/>
        </p:blipFill>
        <p:spPr>
          <a:xfrm>
            <a:off x="0" y="0"/>
            <a:ext cx="6700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05720" y="990720"/>
            <a:ext cx="2438280" cy="77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بهجة النور الساطع إملأ قلوب المؤمن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ضرمها بنار المحبة إملأها حتى الصميم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6:04:22Z</dcterms:created>
  <dc:creator>SUZANNE.MD</dc:creator>
  <dc:description/>
  <dc:language>en-US</dc:language>
  <cp:lastModifiedBy>USER</cp:lastModifiedBy>
  <dcterms:modified xsi:type="dcterms:W3CDTF">2002-12-16T13:47:47Z</dcterms:modified>
  <cp:revision>2</cp:revision>
  <dc:subject/>
  <dc:title>PowerPoint Presentation</dc:title>
</cp:coreProperties>
</file>